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4FD-F795-4533-9C3D-3A8169FA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16A-6D11-4F09-A359-D3C52493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216-B378-400B-8B77-56CC6D83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D13-24F5-4202-91FD-06BAEB03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651-8C48-4B92-8615-75EC3C55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D70-4C12-4267-8DC6-53BF6B10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B42-DDC2-4EFF-BD7B-55EBF584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C43-7F72-458C-BDF2-C4A8BCB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EB4-D95A-479B-8904-386A13AB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A25-7C95-4D72-8892-CB0F15F1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680-07A7-442F-A335-240A148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FCF-361D-4861-B3D5-4AF5363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BFEB-BB55-4C2E-9E4C-9D34694D8F9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7 Zbor verných detí Kristový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or verných detí Kristov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k službe má byť hotový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čuje každé stvor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v ňom je naš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Ducha svoj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chce nám d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v našich srdciach prebý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vojej lásky plameňom hria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ť v svete stude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volá k práci každé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hľadá sluhu verné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celý svet to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jeho príchod blízko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ielo bude skončen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jeho slávy uzri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trie nám pot i slzu z ri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lávy večnej prijme ná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44:06Z</dcterms:modified>
  <cp:revision>42</cp:revision>
  <dc:subject/>
  <dc:title>Je veľký náš Pán, on slávy je Kráľ Nech do všetkých strán  spev vrúcnych znie chvál.</dc:title>
</cp:coreProperties>
</file>